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13.jpeg" ContentType="image/jpeg"/>
  <Override PartName="/ppt/media/image6.gif" ContentType="image/gif"/>
  <Override PartName="/ppt/media/image11.jpeg" ContentType="image/jpeg"/>
  <Override PartName="/ppt/media/image12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23.gif" ContentType="image/gif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7DF9-2CCE-4B6A-AE57-B6903D1A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0A68-F7AC-4038-B0F6-222AF626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6211-F4BE-466E-8F8F-F3D5C96EC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73DE-3B02-4DDD-BF8B-405300706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E04C-D394-4795-B91D-B278D16C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6A80-C431-4A7C-B3D5-E020C41AA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823F-F27F-461A-83B2-B9660B68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486D-4C5D-4FFC-BE4A-E15EC2FE1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F67-B08A-401D-9C88-389FBA92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9D2C-6F2E-4C0E-82B5-4B5D31F4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EF5-DB26-412C-A9EF-14B2CBC22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7D12-4BFD-4712-BBD3-73A44946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F5A1-1524-4AB1-9090-F32924070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E0DA-6459-4A21-BDF7-71533CB4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E987-9E60-406F-8419-4EC1145F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A239-D373-4E84-8EAF-69EE9EF1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0FC9-3A9D-432F-9E53-49B48665A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47C-79F2-4A25-8134-CBE729E0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170C-6812-4CD1-84FF-40B2155D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71C2-93A7-40D7-BE50-A7DFD434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BD8A-E170-45A3-948C-EA7506855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940-DA80-47CF-AAAD-8C410D28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36E-D567-470A-8AA9-49499159D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7E9A-1994-404D-9A17-44F3E19D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823C-5E2F-440F-9F13-057167E7D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55D1-046C-40E8-9DC3-7A9054F2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3B1C-2F2A-48E7-80CD-09F651178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CE1-1108-4091-A232-131AD181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1F04-D49F-4729-B915-7B3646BBF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ADD-53BC-409E-AAC3-EAA78770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041-C2CB-40FC-A563-515754A4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592-D66A-4036-B6F6-FC62ACBC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1F8-EF4E-4BF1-B829-9431CBD9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60F-6E95-441D-A67E-FF9783C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7D2-B754-4903-904E-7AF770F8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3F9-8D29-4AB1-9B8A-48A6A33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8F8-FF54-460E-AC32-1915308B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4D8-EE43-4F62-93DF-6DEF14B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118-78F8-4E8F-B7E3-B0978FE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E7F-A592-4AEC-A44A-862C0B1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66A-A7AD-4508-8C13-CD86E29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b3c3"/>
            </a:gs>
            <a:gs pos="100000">
              <a:srgbClr val="af6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C61-4372-4230-98BF-6EA29E6C5C9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228600"/>
            <a:ext cx="563868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ce31e"/>
                </a:solidFill>
                <a:latin typeface="Century Gothic"/>
              </a:rPr>
              <a:t>GRAVITY: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Ch 12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Sec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p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403-4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6033960"/>
            <a:ext cx="9144000" cy="825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e31e"/>
                </a:solidFill>
                <a:latin typeface="Arial"/>
              </a:rPr>
              <a:t>GRAVITY IS 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8600" y="533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halkboard Bol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halkboard Bold"/>
              </a:rPr>
              <a:t>Acceleration of free-falling 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All falling objects accelerate (change ____________) towards the _________ of the Earth due to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eleration of a falling object due to grav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33720" y="45720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.8 m/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or 9.8 m/s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629400" y="2209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905120" y="2666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010280" y="2666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13_gravity546"/>
          <p:cNvPicPr/>
          <p:nvPr/>
        </p:nvPicPr>
        <p:blipFill>
          <a:blip r:embed="rId1"/>
          <a:stretch/>
        </p:blipFill>
        <p:spPr>
          <a:xfrm>
            <a:off x="5410080" y="228600"/>
            <a:ext cx="3514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57200" y="3962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on Earth, not all falling objects hit the ground at the same time because of _____________ or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510552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603b"/>
                </a:solidFill>
                <a:latin typeface="Arial"/>
              </a:rPr>
              <a:t>air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457200" y="4800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603b"/>
                </a:solidFill>
                <a:latin typeface="Arial"/>
              </a:rPr>
              <a:t>FLUID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04920" y="10666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the velocity of a freely-falling object __________ by ____ m/s for every _______ that pas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up to a certain poin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600200" y="1600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1e1e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57200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9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049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1e1e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1337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_45554278_apples_esa_226"/>
          <p:cNvPicPr/>
          <p:nvPr/>
        </p:nvPicPr>
        <p:blipFill>
          <a:blip r:embed="rId1"/>
          <a:srcRect l="31856" t="0" r="31856" b="0"/>
          <a:stretch/>
        </p:blipFill>
        <p:spPr>
          <a:xfrm>
            <a:off x="0" y="-76320"/>
            <a:ext cx="2516040" cy="693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U1L5b3"/>
          <p:cNvPicPr/>
          <p:nvPr/>
        </p:nvPicPr>
        <p:blipFill>
          <a:blip r:embed="rId2"/>
          <a:stretch/>
        </p:blipFill>
        <p:spPr>
          <a:xfrm>
            <a:off x="3400560" y="0"/>
            <a:ext cx="57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03-10Figure_FIG.jpg"/>
          <p:cNvPicPr/>
          <p:nvPr/>
        </p:nvPicPr>
        <p:blipFill>
          <a:blip r:embed="rId1"/>
          <a:stretch/>
        </p:blipFill>
        <p:spPr>
          <a:xfrm>
            <a:off x="7238880" y="1523880"/>
            <a:ext cx="152568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Text Box 11"/>
          <p:cNvSpPr/>
          <p:nvPr/>
        </p:nvSpPr>
        <p:spPr>
          <a:xfrm>
            <a:off x="152280" y="5943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ce of G on Moon = 1.63 m/s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0" y="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moon…all objects hit the surface at the SAME time because there is no ____ on the moon.  There IS GRAVITY.  Gravity = ____ of Earth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562720" y="457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334120" y="9144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609480" y="19810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mer &amp; Feather Drop on Moon (Apollo 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609480" y="41911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Balloon Fight i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207648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28600" y="1522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rminal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99072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 speed that an object can have in freefall due to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80880" y="38862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295280" y="990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419720" y="1447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AIR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3886200" cy="38098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57200" y="4038480"/>
            <a:ext cx="2819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-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-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-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28600" y="2362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velocity changes depending on the ob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9" descr="Skydiver"/>
          <p:cNvPicPr/>
          <p:nvPr/>
        </p:nvPicPr>
        <p:blipFill>
          <a:blip r:embed="rId1"/>
          <a:stretch/>
        </p:blipFill>
        <p:spPr>
          <a:xfrm>
            <a:off x="3962520" y="2881440"/>
            <a:ext cx="51814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objects fall, _____________ increases until it balances the _______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65760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FLUID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553080" y="838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228600" y="228600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a heavier object will accelerate for a _________ time period and have a __________ terminal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09480" y="3276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04920" y="4191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19112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228600" y="5486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ying Squirrel Suits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762120" y="2895480"/>
            <a:ext cx="2705040" cy="8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943600" y="6095880"/>
            <a:ext cx="2705040" cy="8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791320" y="6248520"/>
            <a:ext cx="3111480" cy="393480"/>
          </a:xfrm>
          <a:prstGeom prst="rect">
            <a:avLst/>
          </a:prstGeom>
          <a:solidFill>
            <a:srgbClr val="cc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676520" y="2133720"/>
            <a:ext cx="0" cy="6728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1676520" y="3047760"/>
            <a:ext cx="0" cy="672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06200" y="3124080"/>
            <a:ext cx="11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2520" y="23623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28600" y="2286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flat sheet of paper falls slowly because of </a:t>
            </a:r>
            <a:r>
              <a:rPr b="0" i="1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ir resistance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 -it reaches its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  <a:ea typeface="ヒラギノ角ゴ Pro W3"/>
              </a:rPr>
              <a:t>TERMINAL VELOCIT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 right a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228600" y="38862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f placed on a magazine, the paper accelerates with the magazine.  Since the magazine weighs more, it accelerates for a longer time perio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OPPED FROM A HIGH POINT…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04-16Figure_FIG.jpg"/>
          <p:cNvPicPr/>
          <p:nvPr/>
        </p:nvPicPr>
        <p:blipFill>
          <a:blip r:embed="rId1"/>
          <a:stretch/>
        </p:blipFill>
        <p:spPr>
          <a:xfrm>
            <a:off x="6553080" y="838080"/>
            <a:ext cx="24433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6"/>
          <p:cNvGrpSpPr/>
          <p:nvPr/>
        </p:nvGrpSpPr>
        <p:grpSpPr>
          <a:xfrm>
            <a:off x="7317360" y="3048120"/>
            <a:ext cx="1130760" cy="1549440"/>
            <a:chOff x="7317360" y="3048120"/>
            <a:chExt cx="1130760" cy="1549440"/>
          </a:xfrm>
        </p:grpSpPr>
        <p:sp>
          <p:nvSpPr>
            <p:cNvPr id="143" name="Line 7"/>
            <p:cNvSpPr/>
            <p:nvPr/>
          </p:nvSpPr>
          <p:spPr>
            <a:xfrm>
              <a:off x="7469280" y="4060800"/>
              <a:ext cx="0" cy="53676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7980480" y="3843360"/>
              <a:ext cx="0" cy="26496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V="1">
              <a:off x="7991640" y="3239640"/>
              <a:ext cx="0" cy="265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 flipV="1">
              <a:off x="7456680" y="3409920"/>
              <a:ext cx="0" cy="264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7317360" y="30481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r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7557120" y="41194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3"/>
          <p:cNvSpPr/>
          <p:nvPr/>
        </p:nvSpPr>
        <p:spPr>
          <a:xfrm>
            <a:off x="6707160" y="990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8156160" y="99072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52280" y="121932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ing pong ball reaches its terminal velocity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lf ball continues to accelerate for a greater time period and has a greater terminal velocity- so it hits the ground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alling Objects Lab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14400" y="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603b"/>
                </a:solidFill>
                <a:latin typeface="Arial"/>
              </a:rPr>
              <a:t>FALLING PEN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200px-2005_Penny_Obv_Unc_D"/>
          <p:cNvPicPr/>
          <p:nvPr/>
        </p:nvPicPr>
        <p:blipFill>
          <a:blip r:embed="rId1"/>
          <a:stretch/>
        </p:blipFill>
        <p:spPr>
          <a:xfrm>
            <a:off x="8381880" y="15228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200px-2005_Penny_Obv_Unc_D"/>
          <p:cNvPicPr/>
          <p:nvPr/>
        </p:nvPicPr>
        <p:blipFill>
          <a:blip r:embed="rId2"/>
          <a:stretch/>
        </p:blipFill>
        <p:spPr>
          <a:xfrm>
            <a:off x="8229600" y="83808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200px-2005_Penny_Obv_Unc_D"/>
          <p:cNvPicPr/>
          <p:nvPr/>
        </p:nvPicPr>
        <p:blipFill>
          <a:blip r:embed="rId3"/>
          <a:stretch/>
        </p:blipFill>
        <p:spPr>
          <a:xfrm>
            <a:off x="914400" y="45720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200px-2005_Penny_Obv_Unc_D"/>
          <p:cNvPicPr/>
          <p:nvPr/>
        </p:nvPicPr>
        <p:blipFill>
          <a:blip r:embed="rId4"/>
          <a:stretch/>
        </p:blipFill>
        <p:spPr>
          <a:xfrm>
            <a:off x="228600" y="15228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7" name="Gravity Mythbusters - Death By a Falling Penny?.mov" descr=""/>
          <p:cNvPicPr/>
          <p:nvPr/>
        </p:nvPicPr>
        <p:blipFill>
          <a:blip r:embed="rId5"/>
          <a:stretch/>
        </p:blipFill>
        <p:spPr>
          <a:xfrm>
            <a:off x="914400" y="1066680"/>
            <a:ext cx="7213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katfig00"/>
          <p:cNvPicPr/>
          <p:nvPr/>
        </p:nvPicPr>
        <p:blipFill>
          <a:blip r:embed="rId1"/>
          <a:stretch/>
        </p:blipFill>
        <p:spPr>
          <a:xfrm>
            <a:off x="7238880" y="2895480"/>
            <a:ext cx="1905120" cy="3962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1219320" y="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d603b"/>
                </a:solidFill>
                <a:latin typeface="Arial"/>
              </a:rPr>
              <a:t>FALLING CA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0" y="914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There are cats on record that have survived falls of over 32 stories (~320 fe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They are more likely to die in falls less than 5 stories.  HOW IS THIS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526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On average, cats reach their terminal velocity (60 mph) after falling about 5 sto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0" y="5029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Once reaching this velocity, they relax and spread out like a parachute, minimizing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28600" y="228600"/>
            <a:ext cx="77724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halkboard Bold"/>
              </a:rPr>
              <a:t>A.  GRAVITY</a:t>
            </a:r>
            <a:r>
              <a:rPr b="0" i="1" lang="en-US" sz="4000" spc="-1" strike="noStrike">
                <a:solidFill>
                  <a:srgbClr val="000000"/>
                </a:solidFill>
                <a:latin typeface="BlairMdITC TT-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8600" y="1066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</a:t>
            </a:r>
            <a:r>
              <a:rPr b="0" lang="en-US" sz="3600" spc="-1" strike="noStrike">
                <a:solidFill>
                  <a:srgbClr val="0d603b"/>
                </a:solidFill>
                <a:latin typeface="Arial"/>
              </a:rPr>
              <a:t>ATTR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tween ANY two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8600" y="320040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ter (anything that has mass) ha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rav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but i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only noticeable between massive objects (like planets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117050"/>
          <p:cNvPicPr/>
          <p:nvPr/>
        </p:nvPicPr>
        <p:blipFill>
          <a:blip r:embed="rId1"/>
          <a:stretch/>
        </p:blipFill>
        <p:spPr>
          <a:xfrm>
            <a:off x="5867280" y="1295280"/>
            <a:ext cx="3124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jectile Mo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-914400" y="35053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04920" y="28954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motions DO NOT affec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228600" y="9907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that has two components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rizo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at combine to form a __________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371600" y="2209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CU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9" descr="bds"/>
          <p:cNvPicPr/>
          <p:nvPr/>
        </p:nvPicPr>
        <p:blipFill>
          <a:blip r:embed="rId1"/>
          <a:stretch/>
        </p:blipFill>
        <p:spPr>
          <a:xfrm>
            <a:off x="4900680" y="762120"/>
            <a:ext cx="42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b"/>
          <p:cNvPicPr/>
          <p:nvPr/>
        </p:nvPicPr>
        <p:blipFill>
          <a:blip r:embed="rId1"/>
          <a:stretch/>
        </p:blipFill>
        <p:spPr>
          <a:xfrm>
            <a:off x="838080" y="228600"/>
            <a:ext cx="77724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lp"/>
          <p:cNvPicPr/>
          <p:nvPr/>
        </p:nvPicPr>
        <p:blipFill>
          <a:blip r:embed="rId1"/>
          <a:stretch/>
        </p:blipFill>
        <p:spPr>
          <a:xfrm>
            <a:off x="380880" y="1433520"/>
            <a:ext cx="84582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ap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illus_weightless"/>
          <p:cNvPicPr/>
          <p:nvPr/>
        </p:nvPicPr>
        <p:blipFill>
          <a:blip r:embed="rId1"/>
          <a:stretch/>
        </p:blipFill>
        <p:spPr>
          <a:xfrm>
            <a:off x="457200" y="2376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609480" y="56386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auts “float” when inside an orbiting spaceship because they are 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5334120" y="6019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n FREE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g-force-one"/>
          <p:cNvPicPr/>
          <p:nvPr/>
        </p:nvPicPr>
        <p:blipFill>
          <a:blip r:embed="rId1"/>
          <a:stretch/>
        </p:blipFill>
        <p:spPr>
          <a:xfrm>
            <a:off x="0" y="286704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ZG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587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0" y="22860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603b"/>
                </a:solidFill>
                <a:latin typeface="Arial"/>
              </a:rPr>
              <a:t>PARABOLIC F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experienc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lessnes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you free fall with a plane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52280" y="2286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a1e1e"/>
                </a:solidFill>
                <a:latin typeface="Arial"/>
              </a:rPr>
              <a:t>$2,950 per per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53352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GRAVITY CLASSROO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219320" y="10666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Gravit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43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4572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57200" y="3049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ight vs. 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12952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 u="sng">
                <a:solidFill>
                  <a:srgbClr val="05137f"/>
                </a:solidFill>
                <a:uFillTx/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19810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_________ in an object that _______ changes. Measured in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572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 u="sng">
                <a:solidFill>
                  <a:srgbClr val="05137f"/>
                </a:solidFill>
                <a:uFillTx/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57200" y="3809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vitational ________ that an object     experiences because of it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57200" y="5257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(changes) by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581280" y="1981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295280" y="243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962520" y="3809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56272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723888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a5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is a FORCE.  F = 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astronaut_weight"/>
          <p:cNvPicPr/>
          <p:nvPr/>
        </p:nvPicPr>
        <p:blipFill>
          <a:blip r:embed="rId1"/>
          <a:stretch/>
        </p:blipFill>
        <p:spPr>
          <a:xfrm>
            <a:off x="0" y="1708200"/>
            <a:ext cx="7772400" cy="5149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"/>
          <p:cNvSpPr/>
          <p:nvPr/>
        </p:nvSpPr>
        <p:spPr>
          <a:xfrm>
            <a:off x="2438280" y="2209680"/>
            <a:ext cx="3124440" cy="642600"/>
          </a:xfrm>
          <a:prstGeom prst="rect">
            <a:avLst/>
          </a:prstGeom>
          <a:solidFill>
            <a:srgbClr val="a5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= 60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5791320" y="4267080"/>
            <a:ext cx="3124080" cy="642600"/>
          </a:xfrm>
          <a:prstGeom prst="rect">
            <a:avLst/>
          </a:prstGeom>
          <a:solidFill>
            <a:srgbClr val="a5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= 60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3290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IM vocabulary strategy using the following term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ree fal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rminal veloc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3049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this gravitational force depends on 2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9907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38080" y="8380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Mass of the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s mass increases, the force of gravi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2514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Earth vs.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2286000" y="3514680"/>
            <a:ext cx="4724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0" y="3124080"/>
            <a:ext cx="441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is why we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 “stuck” to the surface of the Earth instead of being pulled off towards the more-massiv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-221400" y="304920"/>
            <a:ext cx="71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62120" y="152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Distance between th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As distance between the two objects _________, the force of gravity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earth_kids"/>
          <p:cNvPicPr/>
          <p:nvPr/>
        </p:nvPicPr>
        <p:blipFill>
          <a:blip r:embed="rId1"/>
          <a:stretch/>
        </p:blipFill>
        <p:spPr>
          <a:xfrm>
            <a:off x="4724280" y="2666880"/>
            <a:ext cx="4064040" cy="3765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52280" y="1447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400800" y="1523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e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0" y="5481720"/>
            <a:ext cx="9144000" cy="1373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 moon has about a 70% effect on our tides.  The sun has a 30% effect.  The sun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 gravity is stronger (179x stronger than the moon), but it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 far aw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6705720" y="45720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ing t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ion of ti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g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and back. (highest highs and lowest l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705720" y="2362320"/>
            <a:ext cx="2438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ap t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n and moon are at right angles to one another and tidal influences partially cancel each other out. (difference between high tide and low tide is mini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26" descr="tide06a_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gu_earth_browse"/>
          <p:cNvPicPr/>
          <p:nvPr/>
        </p:nvPicPr>
        <p:blipFill>
          <a:blip r:embed="rId1"/>
          <a:stretch/>
        </p:blipFill>
        <p:spPr>
          <a:xfrm>
            <a:off x="1371600" y="1981080"/>
            <a:ext cx="6299280" cy="314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0" y="0"/>
            <a:ext cx="9144000" cy="2022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The rotation (spinning) of the Earth creates the equatorial 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bulge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The Earth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s diameter at the equator is 27 miles more than the pole to pole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5105520"/>
            <a:ext cx="9144000" cy="1717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So a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poles</a:t>
            </a: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 you ar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closer to the center </a:t>
            </a: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of the Earth, so you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weigh slightly more</a:t>
            </a: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Verdana"/>
              </a:rPr>
              <a:t>Poles @ sea level: 9.780 m/s</a:t>
            </a:r>
            <a:r>
              <a:rPr b="0" lang="en-US" sz="1400" spc="-1" strike="noStrike" baseline="30000">
                <a:solidFill>
                  <a:srgbClr val="cccc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Verdana"/>
              </a:rPr>
              <a:t>Equator @ sea level: 9.832 m/s</a:t>
            </a:r>
            <a:r>
              <a:rPr b="0" lang="en-US" sz="1400" spc="-1" strike="noStrike" baseline="30000">
                <a:solidFill>
                  <a:srgbClr val="ccccff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cccc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905120" y="3581280"/>
            <a:ext cx="2286000" cy="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6019920" y="2590920"/>
            <a:ext cx="0" cy="198108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6445080" y="6172200"/>
            <a:ext cx="26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~0.5% mor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images"/>
          <p:cNvPicPr/>
          <p:nvPr/>
        </p:nvPicPr>
        <p:blipFill>
          <a:blip r:embed="rId1"/>
          <a:stretch/>
        </p:blipFill>
        <p:spPr>
          <a:xfrm>
            <a:off x="685800" y="3124080"/>
            <a:ext cx="8001000" cy="3117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193840" y="968400"/>
            <a:ext cx="6112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28600" y="205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w of Universal Grav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533520" y="6858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objects in the universe attract each other through the force of gr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forc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mas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s, forc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Point Star 2"/>
          <p:cNvSpPr/>
          <p:nvPr/>
        </p:nvSpPr>
        <p:spPr>
          <a:xfrm>
            <a:off x="457200" y="1600200"/>
            <a:ext cx="762120" cy="838080"/>
          </a:xfrm>
          <a:custGeom>
            <a:avLst/>
            <a:gdLst/>
            <a:ahLst/>
            <a:rect l="l" t="t" r="r" b="b"/>
            <a:pathLst>
              <a:path w="762000" h="838200">
                <a:moveTo>
                  <a:pt x="1" y="320163"/>
                </a:moveTo>
                <a:lnTo>
                  <a:pt x="291060" y="320165"/>
                </a:lnTo>
                <a:lnTo>
                  <a:pt x="381000" y="0"/>
                </a:lnTo>
                <a:lnTo>
                  <a:pt x="470940" y="320165"/>
                </a:lnTo>
                <a:lnTo>
                  <a:pt x="761999" y="320163"/>
                </a:lnTo>
                <a:lnTo>
                  <a:pt x="526526" y="518034"/>
                </a:lnTo>
                <a:lnTo>
                  <a:pt x="616470" y="838198"/>
                </a:lnTo>
                <a:lnTo>
                  <a:pt x="381000" y="640323"/>
                </a:lnTo>
                <a:lnTo>
                  <a:pt x="145530" y="838198"/>
                </a:lnTo>
                <a:lnTo>
                  <a:pt x="235474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ffba38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gravity"/>
          <p:cNvPicPr/>
          <p:nvPr/>
        </p:nvPicPr>
        <p:blipFill>
          <a:blip r:embed="rId1"/>
          <a:stretch/>
        </p:blipFill>
        <p:spPr>
          <a:xfrm>
            <a:off x="0" y="533520"/>
            <a:ext cx="4724280" cy="5676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gravity2"/>
          <p:cNvPicPr/>
          <p:nvPr/>
        </p:nvPicPr>
        <p:blipFill>
          <a:blip r:embed="rId2"/>
          <a:stretch/>
        </p:blipFill>
        <p:spPr>
          <a:xfrm>
            <a:off x="4724280" y="18288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4800600" y="304920"/>
            <a:ext cx="4343400" cy="1477080"/>
          </a:xfrm>
          <a:prstGeom prst="rect">
            <a:avLst/>
          </a:prstGeom>
          <a:solidFill>
            <a:srgbClr val="33ff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CAP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4800600" y="2057400"/>
            <a:ext cx="4343400" cy="19051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5:45:10Z</dcterms:created>
  <dc:creator>Sarah Sewatsky User</dc:creator>
  <dc:description/>
  <dc:language>en-US</dc:language>
  <cp:lastModifiedBy>Jillian Boisse</cp:lastModifiedBy>
  <cp:lastPrinted>2010-01-10T00:37:51Z</cp:lastPrinted>
  <dcterms:modified xsi:type="dcterms:W3CDTF">2013-02-28T16:38:41Z</dcterms:modified>
  <cp:revision>90</cp:revision>
  <dc:subject/>
  <dc:title>PowerPoint Presentation</dc:title>
</cp:coreProperties>
</file>